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B368-8D70-4933-85D1-AE3C13DC7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7BE7-3162-4E77-9134-15400A11F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98E6-500E-4D5F-BB42-D38FA310D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6C3C-CC8D-4542-89D0-A11401C95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7F09-2100-4389-BD72-1DC6C0024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E912-FCD9-4F36-91BD-69AD7690E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9D49-70D1-4AC4-9F7A-AA9D3486B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EDE4-720B-4CCD-BA22-59BB3B055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E55B-ADC5-4FC0-8444-8073E52B5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A8B7-7EBE-4391-84D9-2BF52294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2E6D-AC88-4048-8068-7D58371B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F132-C2B1-4322-8FFE-F7249F79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8A5F0-749F-4E4D-B2AF-D2D2106B113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BXK28298_paisagens-0018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onte Castelo – Legião Urb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Landscape0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Ainda que eu falas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A língua dos hom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E falasse a língua dos anj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Sem amor, eu nada seria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xd354irn910199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É só o amor, é só o am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Que conhece o que é ver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amor é bom, não quer o 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ão sente inve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u se envaidece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20050927-Paisagens-PauloMachado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811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amor é o f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Que arde sem se 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É feriada que dó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 não se s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É um content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escont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É dor que desatina sem doer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1281761566_113821146_13-TELAS-QUADROS-PINTURAS-A-oLEO-ABSTRATOS-FLORES-PAISAGENS-NUS-MARINAS-RELIGIOSOS-Parana-128176156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Ainda que eu falas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A língua dos hom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E falasse a límgua dos anj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Sem amor, eu nada seria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paisagens-de-inverno-7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É um não quer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ais que bem quer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É solitário an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or entre a g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É um não contentar-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e cont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É cuidar que se gan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m se perder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paisagens-cachoeir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paisagens-cachoeir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É um estar-se pre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or vont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É servir a quem v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vence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É um ter com quem nos m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leal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ão contrário a 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É o mesmo amor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2846_DSC06424_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Estou acord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E todos dormem, todos dorm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Todos dorm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Agora vejo em pa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Mas então veremos face a 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È só o amor, é só o am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Que conhece o que é verdade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0032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inda que eu falas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língua dos hom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 falasse a língua dos anj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em amor, eu nada seria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00:35:38Z</dcterms:created>
  <dc:creator>SEDMS</dc:creator>
  <dc:description/>
  <dc:language>en-US</dc:language>
  <cp:lastModifiedBy>ACER</cp:lastModifiedBy>
  <dcterms:modified xsi:type="dcterms:W3CDTF">2010-10-19T22:03:10Z</dcterms:modified>
  <cp:revision>2</cp:revision>
  <dc:subject/>
  <dc:title>Mante Catelo – Legião Urbana</dc:title>
</cp:coreProperties>
</file>